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488912-56A7-4FAA-A96C-2C0B7C2F3A6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DD2FA4-37A6-4FC5-8143-2E1322140F5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DB954E-122D-4AD4-AE3A-06473282034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648-55CC-4011-AD75-64385CA1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962-BB75-4B2E-A000-735E9AF5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9AFF00-0861-4A7C-9264-6948B8C56AA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3ED74-E68A-4978-BEE8-878342FB6E4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F4263-D540-4A79-9328-5F0DF3A556E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817BC-B574-4481-8C93-4CB2B31AE74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F3B86-6F28-4384-9783-2D636F11785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A1C61-6DF4-4D03-957A-893AC14384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06E5C-801A-498A-B508-2235041A5A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1CE68-2811-4713-85D4-6A901F92482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BBECB-0F09-4EA3-9952-B9C26A640A9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22B7F-3965-4EF0-AA00-593AE5BC6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9CE-1F74-41EA-83E6-9FF11D18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F189F-D4AB-4026-8756-7F81170FCCA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F49BF-9B34-49FA-A825-1E380E1E07C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2CE04-2D45-4A34-9C28-9424C728103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42590E-5330-46F5-92FA-806A948BCD7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81BB2-E759-4DAB-B565-94221BB5B35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885EF-C4A0-45F7-834D-D702308B547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6E3FB-3196-4DA7-90A3-515E26A5E6E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1615C0-D287-4D02-A14C-C8A1126FBDA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FBD9A-0170-459C-BFB9-C5C4FA38782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07F25-A98F-4588-A914-93F93D6A4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6D0-2342-4C77-A5BA-7ABB705B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9B362-3774-4BB6-8422-D1343440033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57DCD-C240-47F5-9CC2-8AD579C68D3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A9CF2-17E3-47D3-A32A-060979F23F8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00E1-6AED-4232-B66E-A1FF7D669DB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E434E-C9BB-4A89-B2AD-E1050C8C4E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DB0F9-99F2-4BE1-83DE-27DA233F207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646DD-DE55-4A83-8A31-2C8536F0258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FD277-D221-4428-8E09-544F8F33FA1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598DA-D042-4BE2-8F81-87596F35B7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EE3A6-E17D-4CDC-A50D-656E474D0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1C6E-6813-4598-8F2B-50D2E0B1984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02E1-4AB3-4D25-A14E-A957DB196B0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B7DA-E41C-451D-A789-C0208026B2D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85FC81-B273-4A9A-B82F-6B956D308A6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6D1C61-A52A-4603-8DC4-5A80ADE3B55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3E1BF1-FFE2-436E-8A50-032B762087C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25149C-99E5-44CD-B0F5-730FFCD9D06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0E7D7B-56BE-4C26-883C-A30D663C25A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55371F-BA90-44CF-B5EF-664D5A7C718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95B181-D81E-4DBA-87BF-E16E136006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CB86DC-9F87-46D3-BFFF-FA2F3600506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9C50C0-9061-433D-A325-2DAE3317994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0B2CB5-C48E-433F-92E6-D0C83918C14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11A301-A65A-49D7-8849-7294320DAB2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26CAE9-95F7-475F-90AD-57F565B1CD6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70238-8F27-4F9F-BE3E-60883F98150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79F6C-EAE9-4269-A8CF-2E9313A0D52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CB49E-2886-4A12-9586-32921531582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E4234-5BAA-402B-BAE2-FBA23066206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D38F3-99AC-4D6F-8368-0703E5CA6D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5BF8E-0E3F-462D-8E5F-7DB45B03E72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D9A4D-BE47-446D-9CC7-E836B5EC61E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63275-F633-471A-B3FF-29E4AD035BE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B0385-5C7F-4247-9B06-24D5B227057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01B7B-4DB7-4BEF-BDFE-EBF55909D2B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DC4C4-3182-4A71-8056-DC85FCCBD9D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E21BD-7500-401A-927E-E78BA62FE1B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0A222-1C94-4E2C-B10A-277D753B66F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D5B8A-4449-40C7-9F18-52E10F07C11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259F0-15C3-4D4D-B7E0-B1F75D742A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9E574-2439-4BAB-BBFD-D745E06A667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923F-CF0D-4918-AF70-9F23A3A80DF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FEB6C-D4A3-4536-BFE5-D1940D9356E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5E993-F14D-4199-9090-5ED0220653E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D067E-124B-48D2-BAD3-4ECF77BDB9A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7DF8C-3227-4E51-88D1-59354CE5BDC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0C73F-5E1E-421F-A478-CD0832F6FB7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4C2AD-EC99-4FB2-8B0B-4A3E94FD44D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B74AC-E9F8-427F-A4A5-AAA38822C63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2D4928-6A4B-4C90-BD06-706B549790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6457A7-C5E3-43A7-ACB9-0F0A2496F18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02DB54-A5A3-46C5-8C24-A0386F43F3E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D0F764-4BBE-4AD4-816D-38E32301CC7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4C2255-9206-4D28-BE48-338160B732A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A45817-F377-4662-91AC-BCA045BB5E2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08948-9200-440F-8682-3EE2C0FF4EC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AE485F-8D56-45DE-91FD-80DC76E0969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6D68B9-11B2-46CF-AC4C-46ED6C03D67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55F7EC-9B9D-4EEE-B511-77E692C776B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9FD621-10D4-4099-B36A-6D82306C07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1A2397-F552-4FBA-804A-FDCB193A439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83134-669C-4DDC-9779-08BD601BBB0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52463-13BE-4E54-AFFA-7E8399971E1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6EC43-FC97-4507-B352-4AF0DCD4B5B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C6917-A229-4453-88A9-DA9D0DB9045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16C5A-C396-41D8-BB95-BE839C8C91A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96345-AE9E-419F-9918-964A0399387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AA20E-2E9E-4CEC-A526-EC89BB2E024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79A196-BE5B-4864-B069-58473DEB024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4B642-A82E-460C-A41A-3B20F6AECF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3D23E-6B43-424B-9D85-D2A2D0B9A34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1A84D-FCCB-4689-9E3E-27A0DEC5D28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E549E-F571-4C2D-9358-008F4552FA9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DFE-A5CF-47FC-9314-1F957D64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27024-FEA0-471C-8570-2BD0388C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8B393-4BFB-489B-9128-AF752B33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340CB-B05C-43F4-8CC5-34B1E877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65D15-5238-4AB9-B633-069C4A1B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AE2CF-F50E-447A-889A-2F210F87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B9C11-2A40-4E57-8827-CCCECB1A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1BE4B0-4748-4AE6-A775-CB103D70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88002-63C2-4412-B00C-04DE3E65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3AE90-BB66-47D2-B31C-2C22A12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826707-1F42-4918-BDD1-53BA0072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9CF48-8691-465D-BB56-613BABF2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FFA55-7E41-4483-BB1E-40C71562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C336C-01B7-4E63-89A1-3F463160C2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E7422-617F-401E-99E3-21762A4624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21419-5B17-4F90-AB9B-B6856DACA9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6CACD-7DC7-4E10-9609-CDDB664F85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ADADE-FE5F-4D85-A428-A5D51B2FC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263-BC3B-4815-BA31-3497F209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469FA-62EA-4DA1-98E7-1E02A6EFEC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0C04E-A2C2-4919-BDF9-E914E46034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BC9CA-7D95-4069-9650-27B4A72F8D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3C699-1241-4C63-8D34-5709F5A2C0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529CD-6412-41EB-83E9-369BEF1EEC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2BBC1-FCAF-454C-AEE0-385471D676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B3D5B-10CD-4F15-B3DE-F2D1B4134F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6CC76-3C92-4E9F-A7CB-298A8D924B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6F2B1-B341-4429-AE9A-6458DA2F55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D058D-9B67-4C9C-9686-C05893DBD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708-DFDC-4AE9-8C33-508E73E3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79573-40EC-4AD4-AF66-6355ECEAEF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E61C4-B314-4ADC-B5F3-8725EFD742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BB319-2F30-4F66-B80B-19ACD10C78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F75B9-67A4-4ABB-ACB9-E38492FDEC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FBC65-F69B-4BE4-BB5A-CC12029FAA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079D2-F5EA-4596-B0A2-2E4BFAC52F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AD451-2350-4660-ADA3-51E5BF315A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EA937-9A84-4B3F-9770-3A9152105F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7ED30-D39D-4AE5-BC85-0E26C41923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722C-FBBD-4282-9260-50A2457C5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DE2-0D6A-4823-A3EC-8B16911F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63C4-084A-40E3-BE60-37606661E6B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7D7C-5924-422F-BF62-BF41E18ED6E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5B1B-1388-492A-A09C-E68D96F1AE5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3B88-FE1F-4179-9DF5-B63464DDC0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8883-CF33-4D47-BF00-E66BBF12FC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2D4F-9C70-45A3-8FCE-DADE886035A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9870-C4B1-49C3-BD3E-9CC0F964581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F23C-7C9D-4459-A4AD-EEC8F5231CF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68AC-2B65-4CC4-99E4-913E973700E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FA72-AA21-44F7-B12E-976458207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9A1-6613-4AE5-A4C4-C4E1A2FA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9971-83B3-481D-9284-CFCE1B06C9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5A8A40-19A1-403C-9CA8-5DD1A2C98F6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8CA2A-1F13-4D01-9E0E-3FB56F415AC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78DE57-6EF6-4ACA-A0B6-F525498B18C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C2DC4-A25B-4868-89D3-DA5004C8B3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D2D3BA-CA25-41DC-8403-7ADA9A96AE6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5001F-1A33-4FB7-BC61-1FD2B7041FE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3E880-63D7-4406-A706-AAA6DE384E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754C6-371F-49AF-84B6-757EF9AEA9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2AB0D4-4FC5-4941-8220-61B1FDE51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7CD-A596-404B-81EE-F82E7AA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23253-75A1-40EE-9BD0-43CE9201259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A4272-72D7-4F8E-9E95-E19984D4B14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3CEED4-85F9-4946-B7F6-13970C1388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6A5A0-308F-49D8-AB2C-6BFC029B3EE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EBD44-3FBA-4BE0-8163-BC636FC97B5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FF34C-C58E-47E6-B9B2-F17DCF6089B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A01A4-0E36-4F14-B341-CB09BA58870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1F5E6-95E3-40C1-AA50-9754027AC64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33BCD-6EBE-4939-9164-3A6CE346CB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D79FC-DAA9-4C8F-9B79-E0CD09EE3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370-BCF3-4729-BC48-64920647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A53D7-F5F8-4BA8-8072-8AB0FB5660E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53A68-3C96-49F8-AF3D-B0E1BE4A1F9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7EF55-9A26-40BA-8B18-23A1BCCE5F4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20866-3828-43BA-95E2-089F6A8A9A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CC3CC-F990-4701-A0BD-127B03D6FE2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EF86-5D4D-425A-981F-FDD1495D964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7BAC0-4708-4077-A803-0A8DB1163FB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87C9-6B52-4429-AC75-AE7F351A78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3E62-5504-4176-978D-1F05F0FF117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A1E63-214A-4294-86D3-DB88E0554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79E-6597-4A4F-A234-045C746B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F9A77-CCD2-4CF1-A797-A691B590283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D646-E16E-4C4E-B088-705FE31586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4F9BB-97C6-43D9-B247-194784BD057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A9D9-AFB9-47BE-898E-FBB94430DDD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EDF27-36C5-4349-9445-C8DE35BABC8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C119-D972-4B8C-91E8-E588B172EF0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8B69B-290A-4B1F-9EC5-F02BEABCF15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AF33E-6092-4690-A62D-1B8DCA3A4F7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5B754D-2AE9-4154-84A2-246D173DF96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2E01D-F244-40C1-AF8A-4910CA77F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D6F365-EB93-4771-B817-D59621F0DBF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F49783-BE51-40B1-89FB-4ACEC6411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5F32C1-480D-4083-BAC8-4ABE1A93595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9DA45E-ED73-42A6-B1D8-A3DE14F80B2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D79AFE-EBBF-4941-9050-1D75AE4E24F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CDAD6E-EC54-498A-B509-596DD0A81CF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329E24-2DB1-44F1-95B1-339DB541206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AE8381-703A-4B06-9BD3-0565EA519A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789218-A267-4A28-8E3B-3EC42FE983C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BD45B6-AC0C-4357-8F15-461C106688E8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F8B2AB-1993-4937-992B-2614E042E5E4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C4D4DA-12D7-4CC6-A312-28DA2D39E5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C0A545-4119-4F8E-9AB0-08FDCF140BA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05015B6-FE45-415B-8F3D-10FBB1C6052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D6A64F-0990-4FFB-9F62-7E768BE1A2B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AB97D0B-8D3C-4830-896E-B9EDFE9EC85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58F223-A85D-4C65-AB7F-E81924B879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3AA11B-1110-4875-B0C4-2DB3A63CC88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jektu sagatavošan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79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 programmas kop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ējā stati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 txBox="1"/>
          <p:nvPr/>
        </p:nvSpPr>
        <p:spPr>
          <a:xfrm>
            <a:off x="484200" y="2182320"/>
            <a:ext cx="5330880" cy="46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ttp://statistikk.nordplusonlin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2"/>
          <a:stretch/>
        </p:blipFill>
        <p:spPr>
          <a:xfrm>
            <a:off x="268200" y="3243240"/>
            <a:ext cx="8462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4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8" name=""/>
          <p:cNvGraphicFramePr/>
          <p:nvPr/>
        </p:nvGraphicFramePr>
        <p:xfrm>
          <a:off x="1082520" y="2300400"/>
          <a:ext cx="7755120" cy="350676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7 (6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1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www.nordplusonline.org/news-call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736640" y="2360520"/>
            <a:ext cx="6310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 iesniegšanas termiņš </a:t>
            </a:r>
            <a:r>
              <a:rPr b="0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– 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2021.gada 1.oktobris, plkst. 23.59.  pēc Norvēģijas l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espresso.siu.no/espresso/login?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912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rdplus programmas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ieskaitot ceļā pavadīto laik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no katras organizācijas/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m Nordplus sedz 100% ceļa izdevumus un uzturēšanās izdevumus saskaņā ar likmē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 2021.gada 1.novembra līdz 2022. gada 1.februāri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ja plānots iesniegt projektu 2022. gada projektu konkursam)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vai līdz 2021./2022.mācību gada beig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97200" y="1506600"/>
            <a:ext cx="678960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itle 1"/>
          <p:cNvSpPr/>
          <p:nvPr/>
        </p:nvSpPr>
        <p:spPr>
          <a:xfrm>
            <a:off x="2266920" y="493560"/>
            <a:ext cx="60958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b7d91"/>
                </a:solidFill>
                <a:latin typeface="Verdana"/>
              </a:rPr>
              <a:t>Detalizēti apakšprogrammu apraksti pieejami Nordplus Rokasgrāmatā (IV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485640" y="2503440"/>
            <a:ext cx="394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Katru gadu pirms projektu konkursa tiek publicēta rokasgrāmatas atjaunotā ver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2021.gada Nordplus Rokasgrāmata (angļu valodā) pieejama: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https://www.nordplusonline.org/how-to-apply/handbook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5784840" y="1795320"/>
            <a:ext cx="28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9"/>
          <p:cNvSpPr/>
          <p:nvPr/>
        </p:nvSpPr>
        <p:spPr>
          <a:xfrm>
            <a:off x="846000" y="4124160"/>
            <a:ext cx="2017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700" spc="-1" strike="noStrike">
                <a:solidFill>
                  <a:srgbClr val="002060"/>
                </a:solidFill>
                <a:latin typeface="Calibri"/>
                <a:ea typeface="Calibri"/>
              </a:rPr>
              <a:t>Nordplus Rokasgrāmata (2021.) par sagatavošanas vizītēm, 18.lpp; 44.lpp , 64.lpp, 65 lpp., 72.l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952640" y="1189080"/>
            <a:ext cx="4826160" cy="2935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2"/>
          <a:stretch/>
        </p:blipFill>
        <p:spPr>
          <a:xfrm>
            <a:off x="5280120" y="3538440"/>
            <a:ext cx="34812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03520" y="1252440"/>
            <a:ext cx="74404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u Ministru padomes programma Ziemeļvalstu un Baltijas valstu sadarbībai izglītības jom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5 apakšprogram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Jaunieš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ākās izglītīb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Pieaugušo izglītīb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Horizontāl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valo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Oficiālais portāls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nordplusonline.org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Informācija VIAA portālā latvisk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viaa.gov.lv/lv/nord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Ceļa izdevumi savā  valstī, ja pārsniedz 500 km – 150 eur 1 dalībniekam. (uz Latviju nav attiecinā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apakš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! Kā projekta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93680" y="1349280"/>
            <a:ext cx="6692760" cy="4840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- 100% 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 piešķirtā finansējuma saskaņā ar plānotajām vienības izmaksā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tīkliem un projektiem kopš 2021. gada līdzfinansējuma apjoms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av noteikts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4308480" y="1647720"/>
            <a:ext cx="4282920" cy="1386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4408560" y="3127320"/>
            <a:ext cx="4487760" cy="22748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2"/>
          <p:cNvSpPr/>
          <p:nvPr/>
        </p:nvSpPr>
        <p:spPr>
          <a:xfrm>
            <a:off x="4857840" y="5649840"/>
            <a:ext cx="3776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a apraksts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24. – 25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11280" y="423720"/>
            <a:ext cx="6485040" cy="94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Jauniešu Sadarbības projektu un tīkl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3"/>
          <a:stretch/>
        </p:blipFill>
        <p:spPr>
          <a:xfrm>
            <a:off x="109440" y="1652760"/>
            <a:ext cx="3992760" cy="24746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358920" y="4363920"/>
            <a:ext cx="377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Jauniešu apakšpr.  sadarbības projektu pieteikumu veidlapa, pieejama https://espresso.diku.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apakš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r visi un jebkurš pieaugušo izglītībā iesaistītais (formālā, neformālā, vispārējā, profesionālā izglītī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Calibri"/>
                <a:ea typeface="Verdana"/>
              </a:rPr>
              <a:t>!!!</a:t>
            </a:r>
            <a:r>
              <a:rPr b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tematisko tīklu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lānošan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izglītības projektu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66600" y="1547640"/>
            <a:ext cx="8002440" cy="3262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vadības, īstenošanas un publicitātes izmaksa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fiksēta summa projekta koordinatoram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3000 EUR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, projekta partneriem –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1000 EU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(starptautiskās) tikšanā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ceļa un uzturēšanās izdevumi projektā iesaistīto partneru dalībai plānošanas, projekta koordinēšanas sanāksmēm, semināriem, mācību kursiem saskaņā ar noteiktajām likmēm ceļa un uzturēšanās izdevumi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4" descr=""/>
          <p:cNvPicPr/>
          <p:nvPr/>
        </p:nvPicPr>
        <p:blipFill>
          <a:blip r:embed="rId1"/>
          <a:srcRect l="3218" t="7703" r="1798" b="5770"/>
          <a:stretch/>
        </p:blipFill>
        <p:spPr>
          <a:xfrm>
            <a:off x="2752560" y="4700520"/>
            <a:ext cx="5642280" cy="181944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2"/>
          <p:cNvSpPr/>
          <p:nvPr/>
        </p:nvSpPr>
        <p:spPr>
          <a:xfrm>
            <a:off x="201600" y="5310360"/>
            <a:ext cx="23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66600" y="1593360"/>
            <a:ext cx="8002440" cy="2311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Izstrādes darb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darba apmaksai, kas ieguldītas projekta ietvaros paredzētā produkta radīšanai (izglītojošie materiāli, mācību programmas, metodes, u.c.), saskaņā ar noteiktajām likmē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2614680" y="3659040"/>
            <a:ext cx="6218280" cy="233064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"/>
          <p:cNvSpPr/>
          <p:nvPr/>
        </p:nvSpPr>
        <p:spPr>
          <a:xfrm>
            <a:off x="291960" y="4402080"/>
            <a:ext cx="20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apakš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visi ieinteresētie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     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– dāņu, somu, norvēģu, zviedru, sāmu, islandiešu, fēriešu, grenlandiešu valoda, zīmju valoda (ziemeļvalst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konferences, seminā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ublikācij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214720" y="380880"/>
            <a:ext cx="64720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jektu dalībnieki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ama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vidussk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zinātniskās institū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nevalstiskās organizā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ivātuzņēmu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+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1 sadarbības partneris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Nordplus programmas finansējums -  līdz 75%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 no aktivitāšu izmaksām, 25% - projekta īstenotāju līdzfinansēju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855800" y="1279080"/>
            <a:ext cx="6905520" cy="5025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Tiešie izdev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ceļa un uzturēšanās izdevumi, telpu noma semināriem, materiālu drukāšana semināriem, samaksa vieslektoriem, specifisku darbu izpildītāj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administratīvās izmaksas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līdz 5%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no </a:t>
            </a:r>
            <a:r>
              <a:rPr b="0" i="1" lang="lv-LV" sz="2000" spc="-1" strike="noStrike">
                <a:solidFill>
                  <a:srgbClr val="254061"/>
                </a:solidFill>
                <a:latin typeface="Calibri"/>
              </a:rPr>
              <a:t>Nordplus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 finansējuma projekta koordinēšanas nodrošināšanai (pamatojošie dokumenti nav nepieciešam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Projektā iesaistītajiem darbiniekiem - samaksa par darbu, kas ir ieguldīts projekta izglītības rezultātu/produktu radīšanā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(mācību programma, mācību līdzekļi, mācību metodes ut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490760" y="1712880"/>
            <a:ext cx="7653240" cy="357660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2"/>
          <p:cNvSpPr/>
          <p:nvPr/>
        </p:nvSpPr>
        <p:spPr>
          <a:xfrm>
            <a:off x="136440" y="2739960"/>
            <a:ext cx="1449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Budžeta sadaļa projekta pieteikuma veidlapā, Espresso sistēma https://espresso.siu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2720" y="861840"/>
            <a:ext cx="736128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 – www.nordplusonline.org, projektu piemēri - https://www.nordplusonline.org/projects/project-stories/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http://espresso.siu.no/espre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projects/partner-search/#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Twinning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www.etwinning.net/en/pub/index.htm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choolgateway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login.schoolgateway.com/0/auth/lo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38560" y="1417320"/>
            <a:ext cx="454824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es </a:t>
            </a:r>
            <a:r>
              <a:rPr b="0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8568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64960" y="1916280"/>
            <a:ext cx="3503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sagatavošanas vizītes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012760" y="1252440"/>
            <a:ext cx="6870600" cy="217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Sniedz iespēju </a:t>
            </a:r>
            <a:r>
              <a:rPr b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tikties potenciālā projekta partneriem pieteikumu sagatavošanai Jauniešu, Pieaugušo izglītības un Ziemeļvalstu valodu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0" y="4168800"/>
            <a:ext cx="9212400" cy="1757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"/>
          <p:cNvPicPr/>
          <p:nvPr/>
        </p:nvPicPr>
        <p:blipFill>
          <a:blip r:embed="rId3"/>
          <a:stretch/>
        </p:blipFill>
        <p:spPr>
          <a:xfrm>
            <a:off x="77760" y="2076480"/>
            <a:ext cx="188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28440" y="992160"/>
            <a:ext cx="7094520" cy="5160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2.gada Nordplus projektu konkursu plānots izsludināt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1.novembrī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paredzamais projektu iesniegšanas termiņš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022.gada 1.februār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- 2022. gada konkursos projekti tiek aicināti  uzsvērt </a:t>
            </a:r>
            <a:r>
              <a:rPr b="1" lang="lv-LV" sz="22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r>
              <a:rPr b="1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 </a:t>
            </a:r>
            <a:r>
              <a:rPr b="0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(</a:t>
            </a:r>
            <a:r>
              <a:rPr b="0" lang="en-US" sz="2200" spc="-1" strike="noStrike">
                <a:solidFill>
                  <a:srgbClr val="009a00"/>
                </a:solidFill>
                <a:latin typeface="Calibri"/>
                <a:ea typeface="Verdana"/>
              </a:rPr>
              <a:t>“Enhancing Educational Cooperation for a Greener Future”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Galvenais dokuments projektu sagatavotājiem  - </a:t>
            </a:r>
            <a:r>
              <a:rPr b="1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2022. gada Nordplus rokasgrāmata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tiks publicēta Nordplus oficiālajā mājas lapā pēc  2022. gada konkursa izsludināš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Nordplus rokasgrāmata (angļu valodā) pieejama: https://www.nordplusonline.org/How-to-apply/HANDBOOK#pdf_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344680" y="2371320"/>
            <a:ext cx="6354720" cy="426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no visām 8 programmas dalībvalstīm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g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331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projektu pieteikumi ar kopējo pieprasīto grantu 14, 84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kopumā 8 programmas dalībvalstīs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apstiprinā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56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(77%) ar kopējo piešķirto grantu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8,59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Detalizēta informācija par 2021. gada projektu konkursa rezultātiem pieejama Nordplus programmas oficiālajā portālā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https://www.nordplusonline.org/news/nordplus-overview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A picture containing text, indoor, person&#10;&#10;Description automatically generated"/>
          <p:cNvPicPr/>
          <p:nvPr/>
        </p:nvPicPr>
        <p:blipFill>
          <a:blip r:embed="rId2"/>
          <a:stretch/>
        </p:blipFill>
        <p:spPr>
          <a:xfrm>
            <a:off x="190440" y="2446200"/>
            <a:ext cx="23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C09853-8EA0-4CD8-B7EF-C031F794326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21.gada projektu konkursa  rezultāti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244440" y="1963800"/>
          <a:ext cx="8745480" cy="3740040"/>
        </p:xfrm>
        <a:graphic>
          <a:graphicData uri="http://schemas.openxmlformats.org/drawingml/2006/table">
            <a:tbl>
              <a:tblPr/>
              <a:tblGrid>
                <a:gridCol w="1249560"/>
                <a:gridCol w="1249200"/>
                <a:gridCol w="1249200"/>
                <a:gridCol w="1249560"/>
                <a:gridCol w="1378080"/>
                <a:gridCol w="1120680"/>
                <a:gridCol w="1249200"/>
              </a:tblGrid>
              <a:tr h="1320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 iesnieg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jektu pieteikum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finansē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iesnieg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finansē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 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%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no kopējā finansēto projektu ska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2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51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 (22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9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 (8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6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1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l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6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147 7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itle 1"/>
          <p:cNvSpPr/>
          <p:nvPr/>
        </p:nvSpPr>
        <p:spPr>
          <a:xfrm>
            <a:off x="2292480" y="473040"/>
            <a:ext cx="62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Verdana"/>
              </a:rPr>
              <a:t>Nordplus programmas atbalstīto projektu skaits un piešķirtais finansējums Latvijas organizācijām 2008. – 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Placeholder 3"/>
          <p:cNvSpPr/>
          <p:nvPr/>
        </p:nvSpPr>
        <p:spPr>
          <a:xfrm flipV="1" rot="10800000">
            <a:off x="0" y="5979960"/>
            <a:ext cx="9144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Kopumā visās Nordplus apakšprogrammās no 2008. līdz 2021. gadam apstiprinā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497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Latvijas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niedzēju (koordinatoru) projekti par kopējo summu ~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9 miljoni eiro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Chart 4" descr=""/>
          <p:cNvPicPr/>
          <p:nvPr/>
        </p:nvPicPr>
        <p:blipFill>
          <a:blip r:embed="rId1"/>
          <a:stretch/>
        </p:blipFill>
        <p:spPr>
          <a:xfrm>
            <a:off x="158760" y="1652760"/>
            <a:ext cx="8862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1-09-07T10:35:50Z</dcterms:modified>
  <cp:revision>226</cp:revision>
  <dc:subject/>
  <dc:title>PowerPoint Presentation</dc:title>
</cp:coreProperties>
</file>